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B22A-FF6B-46E4-AB04-A04C67009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A9A9-2297-4791-B734-E9CB0F0D3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FC44-78C8-4ADF-8B12-F5D0E05A6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C6E6-DCBD-4136-AD29-325B38264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F173-E59F-405A-9511-E72F8CF4D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5CA5-834C-43C4-8B26-DF4802E76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7C4E-4D30-43BD-B518-787D741A3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6D56-2342-4A0F-B4FB-D4FD064DC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62D6-9889-479F-9BF4-80EC5C45F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31CF-BBE7-4E56-8076-C96F2BBE5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9BC4-19E9-4E78-A41C-5E84EA3C7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9663-BABA-4CAF-A476-6D2F12D68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70926-B879-4DC6-BBCD-BC8933EA40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0728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7200" spc="-1" strike="noStrike">
                <a:solidFill>
                  <a:srgbClr val="000000"/>
                </a:solidFill>
                <a:latin typeface="Arial"/>
              </a:rPr>
              <a:t>adjectiv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863640" cy="7178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419640" y="4724280"/>
            <a:ext cx="4248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11280" y="3213000"/>
            <a:ext cx="1295280" cy="9716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95280" y="3141720"/>
            <a:ext cx="82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1557360"/>
            <a:ext cx="828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8000" y="2427120"/>
            <a:ext cx="174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Looks lik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0920" y="422100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Sounds lik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4797360"/>
            <a:ext cx="835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6021360"/>
            <a:ext cx="165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Feels lik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39640" y="4870440"/>
            <a:ext cx="808200" cy="819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1116000" y="5157720"/>
            <a:ext cx="792000" cy="6350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68360" y="1197000"/>
            <a:ext cx="590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333399"/>
                </a:solidFill>
                <a:latin typeface="Arial"/>
              </a:rPr>
              <a:t>C</a:t>
            </a:r>
            <a:r>
              <a:rPr b="0" lang="en-NZ" sz="4000" spc="-1" strike="noStrike">
                <a:solidFill>
                  <a:srgbClr val="cc0000"/>
                </a:solidFill>
                <a:latin typeface="Arial"/>
              </a:rPr>
              <a:t>o</a:t>
            </a:r>
            <a:r>
              <a:rPr b="0" lang="en-NZ" sz="4000" spc="-1" strike="noStrike">
                <a:solidFill>
                  <a:srgbClr val="ff9900"/>
                </a:solidFill>
                <a:latin typeface="Arial"/>
              </a:rPr>
              <a:t>l</a:t>
            </a:r>
            <a:r>
              <a:rPr b="0" lang="en-NZ" sz="4000" spc="-1" strike="noStrike">
                <a:solidFill>
                  <a:srgbClr val="00ccff"/>
                </a:solidFill>
                <a:latin typeface="Arial"/>
              </a:rPr>
              <a:t>o</a:t>
            </a:r>
            <a:r>
              <a:rPr b="0" lang="en-NZ" sz="4000" spc="-1" strike="noStrike">
                <a:solidFill>
                  <a:srgbClr val="008000"/>
                </a:solidFill>
                <a:latin typeface="Arial"/>
              </a:rPr>
              <a:t>u</a:t>
            </a:r>
            <a:r>
              <a:rPr b="0" lang="en-NZ" sz="4000" spc="-1" strike="noStrike">
                <a:solidFill>
                  <a:srgbClr val="cc0099"/>
                </a:solidFill>
                <a:latin typeface="Arial"/>
              </a:rPr>
              <a:t>r</a:t>
            </a:r>
            <a:r>
              <a:rPr b="0" lang="en-NZ" sz="4000" spc="-1" strike="noStrike">
                <a:solidFill>
                  <a:srgbClr val="cc0000"/>
                </a:solidFill>
                <a:latin typeface="Arial"/>
              </a:rPr>
              <a:t>s</a:t>
            </a: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, shapes, s</a:t>
            </a: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NZ" sz="8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s, textures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1700280"/>
            <a:ext cx="208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14560" y="3213000"/>
            <a:ext cx="7129440" cy="14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a description 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(describing a nou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EG: The </a:t>
            </a:r>
            <a:r>
              <a:rPr b="1" lang="en-NZ" sz="2800" spc="-1" strike="noStrike">
                <a:solidFill>
                  <a:srgbClr val="cc0000"/>
                </a:solidFill>
                <a:latin typeface="Arial"/>
              </a:rPr>
              <a:t>furry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cat. The </a:t>
            </a:r>
            <a:r>
              <a:rPr b="1" lang="en-NZ" sz="2800" spc="-1" strike="noStrike">
                <a:solidFill>
                  <a:srgbClr val="cc0000"/>
                </a:solidFill>
                <a:latin typeface="Arial"/>
              </a:rPr>
              <a:t>purple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hea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411280" y="4941720"/>
            <a:ext cx="6193080" cy="16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cc0000"/>
                </a:solidFill>
                <a:latin typeface="Arial"/>
              </a:rPr>
              <a:t>hard, soft, furry, tall, red, spotty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Feels more interesting to rea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5T07:55:22Z</dcterms:created>
  <dc:creator>Ministry of Education</dc:creator>
  <dc:description/>
  <dc:language>en-US</dc:language>
  <cp:lastModifiedBy>Ministry of Education</cp:lastModifiedBy>
  <dcterms:modified xsi:type="dcterms:W3CDTF">2007-04-21T09:48:02Z</dcterms:modified>
  <cp:revision>20</cp:revision>
  <dc:subject/>
  <dc:title>Simile</dc:title>
</cp:coreProperties>
</file>